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74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574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339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8832960"/>
            <a:ext cx="2957400" cy="44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5840" y="8832960"/>
            <a:ext cx="2957400" cy="44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4BB72-EDB4-47DA-A36F-402067140F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04840" y="69840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B3C9-702F-42D6-9D3E-D8E356878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820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4360" y="3187080"/>
            <a:ext cx="638820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9B19-02E7-4500-AD22-74EBB0EC1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4360" y="318708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7840" y="318708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3641-E5CA-488D-BF5C-461B28023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4360" y="144756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4360" y="318708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4360" y="318708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000" y="318708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F3E6-6DDB-4984-BE2A-69F4488C3E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01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D9C5-8587-43A4-86DC-3A3ED3B1AD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6C4F-64EC-432C-A433-BCFC4912F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85D6-F027-4BB1-B7B5-CADE5A763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ABC3-9042-4B79-AB3B-7B3274A64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4360" y="379080"/>
            <a:ext cx="638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01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76EA-28FF-410B-A0FD-8B70CC47C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4360" y="318708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5476-C03D-4696-B2D6-B417F3625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7840" y="318708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FC54-F43A-444B-BED2-825F6FA1C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4360" y="3187080"/>
            <a:ext cx="638820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675D-3288-4FBD-BF0A-EF0FF40AE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-14760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50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13032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6760" indent="-14760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-1252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96880" indent="-1252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96880" indent="-1252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29240" y="5803920"/>
            <a:ext cx="671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US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E5208-5C47-4C04-A7C2-C9D77B56811D}" type="slidenum"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7913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9184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Dynamique de l'épidémie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(la Rougeole à l'Unil-EPFL)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95520" y="3600360"/>
            <a:ext cx="686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eu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ha Her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udia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uno Pais &amp; Didier Langue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avril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734080"/>
            <a:ext cx="1584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8DA4-36FF-4FDB-AF50-A19A29F56B7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12800" y="4199040"/>
            <a:ext cx="645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1438200"/>
            <a:ext cx="5761080" cy="108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19640" y="1800360"/>
            <a:ext cx="539640" cy="360360"/>
          </a:xfrm>
          <a:prstGeom prst="rightArrow">
            <a:avLst>
              <a:gd name="adj1" fmla="val 50000"/>
              <a:gd name="adj2" fmla="val 37438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1800360"/>
            <a:ext cx="539640" cy="360360"/>
          </a:xfrm>
          <a:prstGeom prst="rightArrow">
            <a:avLst>
              <a:gd name="adj1" fmla="val 50000"/>
              <a:gd name="adj2" fmla="val 37438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19280" y="1979280"/>
            <a:ext cx="4500720" cy="720720"/>
          </a:xfrm>
          <a:custGeom>
            <a:avLst/>
            <a:gdLst>
              <a:gd name="textAreaLeft" fmla="*/ 0 w 4500720"/>
              <a:gd name="textAreaRight" fmla="*/ 4501080 w 450072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5486" y="16904"/>
                </a:moveTo>
                <a:arcTo wR="-8093" hR="-8093" stAng="7862440" swAng="-5797031"/>
                <a:lnTo>
                  <a:pt x="1891" y="4695"/>
                </a:lnTo>
                <a:arcTo wR="10800" hR="10800" stAng="-8734591" swAng="5797031"/>
                <a:lnTo>
                  <a:pt x="19664" y="618"/>
                </a:lnTo>
                <a:lnTo>
                  <a:pt x="14113" y="6732"/>
                </a:lnTo>
                <a:lnTo>
                  <a:pt x="14341" y="673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125960" y="2773440"/>
                <a:ext cx="73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734080" y="1800360"/>
                <a:ext cx="206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00360" y="1800360"/>
                <a:ext cx="1796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95600" y="2806560"/>
            <a:ext cx="4784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taux de vaccinés durant la campa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667400" y="2340000"/>
                <a:ext cx="1936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2800" y="3419640"/>
            <a:ext cx="6667560" cy="131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13160" y="401796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53160" y="401796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92440" y="3735360"/>
                <a:ext cx="314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978520" y="3735360"/>
                <a:ext cx="314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766960" y="4557600"/>
            <a:ext cx="4784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= flux d'élèves entre de Dorigny et So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= flux d'élèves entre EPFL et So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00320" y="1800360"/>
                <a:ext cx="3189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300320" y="3780000"/>
                <a:ext cx="328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4720" y="1079640"/>
            <a:ext cx="63946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m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1. d'évaluer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- les risques encou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- efficacité de la campagne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6760" indent="-14760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vaccination à l'Unil-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2. d'apprécier l’importance du taux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vaccination contre l'épidémie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Rouge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3. d'obtenir une simulation plus adapté 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notre cas d'é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Difficultés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4360" y="1447920"/>
            <a:ext cx="639468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ification du modèle po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on et déplacement des personnes  dans l'e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ion correct des para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ériode d’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5734080"/>
            <a:ext cx="15130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700" spc="-1" strike="noStrike">
                <a:solidFill>
                  <a:srgbClr val="cc0000"/>
                </a:solidFill>
                <a:latin typeface="Comic Sans MS"/>
              </a:rPr>
              <a:t>Calendrie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19280" y="1916280"/>
          <a:ext cx="6388200" cy="3497040"/>
        </p:xfrm>
        <a:graphic>
          <a:graphicData uri="http://schemas.openxmlformats.org/drawingml/2006/table">
            <a:tbl>
              <a:tblPr/>
              <a:tblGrid>
                <a:gridCol w="3194280"/>
                <a:gridCol w="31939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Séance pré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Réalisation modèle 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Manquée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Réalisation modèle 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Théorie et Matla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Perfectionnement du modè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Théorie et Matla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Perfectionnement du  modè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Exercices systèmes dynamiqu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Perfectionnement du modè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Exercices et proj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Réalisation de la pré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</a:t>
                      </a:r>
                      <a:r>
                        <a:rPr b="0" lang="fr-CH" sz="3200" spc="-1" strike="noStrike">
                          <a:solidFill>
                            <a:srgbClr val="f63622"/>
                          </a:solidFill>
                          <a:latin typeface="Times New Roman"/>
                        </a:rPr>
                        <a:t>Pré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</a:t>
                      </a:r>
                      <a:r>
                        <a:rPr b="0" lang="fr-CH" sz="3200" spc="-1" strike="noStrike">
                          <a:solidFill>
                            <a:srgbClr val="f63622"/>
                          </a:solidFill>
                          <a:latin typeface="Times New Roman"/>
                        </a:rPr>
                        <a:t>Pré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1341360"/>
            <a:ext cx="37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maine n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Feedback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4720" y="1447920"/>
            <a:ext cx="639468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ggestions pour améliorer le cou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 pas être oublier par Sven Bergmann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67280" y="456840"/>
            <a:ext cx="23623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Objectif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0000" y="1503000"/>
            <a:ext cx="720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udier le modèle simple 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quer et Interprèter le modèle SIR sur un cas concret et actue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Epidémie de la Rougeole à l'Unil-EPFL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apter ce modèle à notre cas particulier afin d'évaluer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es risques enco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efficacité de la campagne d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cc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1440" y="1371600"/>
            <a:ext cx="5721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03200" y="160020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3749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995640"/>
            <a:ext cx="144720" cy="14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EF08-CDDF-49C0-AB37-A4FF5B2D40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4360" y="1460160"/>
            <a:ext cx="639468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système dyna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(t): nombre de personnes saines susceptibles de contracter la mala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(t): nombres de personnes infect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t): nombre de personnes immunisée ou décéd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57340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0360" y="270036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système dynam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2700360"/>
            <a:ext cx="378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s paramèt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 : indice de viru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itesse de transmi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: indice de guér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438200"/>
            <a:ext cx="5761080" cy="1081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419640" y="1800360"/>
            <a:ext cx="539640" cy="360360"/>
          </a:xfrm>
          <a:prstGeom prst="rightArrow">
            <a:avLst>
              <a:gd name="adj1" fmla="val 50000"/>
              <a:gd name="adj2" fmla="val 37438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1800360"/>
            <a:ext cx="539640" cy="360360"/>
          </a:xfrm>
          <a:prstGeom prst="rightArrow">
            <a:avLst>
              <a:gd name="adj1" fmla="val 50000"/>
              <a:gd name="adj2" fmla="val 37438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414440" y="3394080"/>
                <a:ext cx="2832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∗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∗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465200" y="3998880"/>
                <a:ext cx="37022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∗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∗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440000" y="4503600"/>
                <a:ext cx="1909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60360" y="3419640"/>
            <a:ext cx="181080" cy="1439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Intérêts du modèle SI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4360" y="1079640"/>
            <a:ext cx="639468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met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de simuler graphiqu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a propagation d’une maladie au    sein d’un espace c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on é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d'évaluer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es risques d'épidé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a du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on pic d'a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60360" y="1476360"/>
            <a:ext cx="1461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5734080"/>
            <a:ext cx="180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4360" y="557280"/>
            <a:ext cx="6394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800" spc="-1" strike="noStrike">
                <a:solidFill>
                  <a:srgbClr val="cc0000"/>
                </a:solidFill>
                <a:latin typeface="Comic Sans MS"/>
              </a:rPr>
              <a:t>Dynamique de la population selon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9468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734080"/>
            <a:ext cx="15843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73520" cy="432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19280" y="6021360"/>
            <a:ext cx="67690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S(0)=99, I(0)=1, R(0)=0 avec r = 0.01 et a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1844640"/>
            <a:ext cx="16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r/a &g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épidé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01080" y="249228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636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800" spc="-1" strike="noStrike">
                <a:solidFill>
                  <a:srgbClr val="cc0000"/>
                </a:solidFill>
                <a:latin typeface="Comic Sans MS"/>
              </a:rPr>
              <a:t>Dynamique du système selon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5904000" cy="4273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5640" y="5734080"/>
            <a:ext cx="1512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1628640"/>
            <a:ext cx="144000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CH" sz="2800" spc="-1" strike="noStrike">
                <a:solidFill>
                  <a:srgbClr val="f63622"/>
                </a:solidFill>
                <a:latin typeface="Comic Sans MS"/>
              </a:rPr>
              <a:t>r&gt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CH" sz="2800" spc="-1" strike="noStrike">
                <a:solidFill>
                  <a:srgbClr val="00ff00"/>
                </a:solidFill>
                <a:latin typeface="Comic Sans MS"/>
              </a:rPr>
              <a:t>r=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CH" sz="2800" spc="-1" strike="noStrike">
                <a:solidFill>
                  <a:srgbClr val="3333cc"/>
                </a:solidFill>
                <a:latin typeface="Comic Sans MS"/>
              </a:rPr>
              <a:t>r&lt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5950080"/>
            <a:ext cx="576108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La fonction telle que r = a détermine le seuil limite de propagation de la mala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800" spc="-1" strike="noStrike">
                <a:solidFill>
                  <a:srgbClr val="cc0000"/>
                </a:solidFill>
                <a:latin typeface="Comic Sans MS"/>
              </a:rPr>
              <a:t>Dynamique de la population selon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5832720" cy="4033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4360" y="5734080"/>
            <a:ext cx="1871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844640"/>
            <a:ext cx="14414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r/a &l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épidé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2565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636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6021360"/>
            <a:ext cx="71294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S(0)=99, I(0)=1, R(0)=0 avec r = 0.02 et a = 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946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itions d’applications du modè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La population totale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Probabilité d’être infecté égale pour tout le mo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Période d'incubation nu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Le modèle ne distinguent pas les personnes immunisées ou mortes par la maladie (même eff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dier Languetin</cp:lastModifiedBy>
  <dcterms:modified xsi:type="dcterms:W3CDTF">2009-04-22T19:27:40Z</dcterms:modified>
  <cp:revision>9</cp:revision>
  <dc:subject/>
  <dc:title>Présentation PowerPoint</dc:title>
</cp:coreProperties>
</file>